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234-2416-4D61-B37E-A7F38E53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433-E9F5-4682-AAF6-6326E47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B4A-92BA-46FA-856E-230DD2C0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208-54E5-4567-8368-5D72C740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9C2-9A9C-485D-9E4D-3F839C5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65C-C207-493D-8D7C-D70E86F5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C14-6993-4015-8619-E575A51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208-D3E2-49D0-9692-849C09E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8A6-B248-41FF-963E-5D79C81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C6C-3733-4D12-9730-E724B03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93F-A61F-45DA-9877-D9FF2F9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A42-F42F-4F9C-897C-D0D2F11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4BF4-919C-4F04-8FED-E5BD97258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iosit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 basis of education and if you tell 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curiosity killed the cat, I say only the cat died nobl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~Arnold Edinbor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8" descr="Cats_Dogs_School.jpg"/>
          <p:cNvPicPr/>
          <p:nvPr/>
        </p:nvPicPr>
        <p:blipFill>
          <a:blip r:embed="rId1"/>
          <a:stretch/>
        </p:blipFill>
        <p:spPr>
          <a:xfrm>
            <a:off x="2895480" y="1752480"/>
            <a:ext cx="327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4:56:58Z</dcterms:created>
  <dc:creator>Cari Sonnenburg</dc:creator>
  <dc:description/>
  <dc:language>en-US</dc:language>
  <cp:lastModifiedBy>Cari Sonnenburg</cp:lastModifiedBy>
  <dcterms:modified xsi:type="dcterms:W3CDTF">2010-05-08T15:03:31Z</dcterms:modified>
  <cp:revision>1</cp:revision>
  <dc:subject/>
  <dc:title>Curiosity is the basis of education and if you tell me that curiosity killed the cat, I say only the cat died nobly. ~Arnold Edinborough</dc:title>
</cp:coreProperties>
</file>